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1DC-3195-4CCF-A844-FC5F560713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189-9478-4ACB-9F42-B5D06A4F1E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F92D-614F-46B4-A9CB-E59C38FC4E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366-4CEC-4BE2-9410-69A80E7B92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2E2C-CE4F-4EBA-80E3-1C93D95107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CC42-E3CD-4885-A8B4-FB704E986F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61A-4C10-4F99-A3B6-70BB918C2E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AC5-248B-4832-9A08-589286D55D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4125-7094-42B2-89D0-DD7C5C5194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B5F8-5EB4-4A09-8A30-A39D5A19FC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439-4CA2-4F43-A28D-4041F073D7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62B0-E2BD-4086-8F97-BDBD281C7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571B-658B-46C3-9DE3-2F93178015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BDE1-2286-4CC2-848B-AB6D5A2125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15D-4CA4-4302-976F-DDD580F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00F-9FCD-404A-905A-923853D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CE7-C250-4B53-8A54-1BECC756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C3B-57B2-4FEB-8290-4D60BD1E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026F-223E-48B5-9F05-0F35EF96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26C-6E52-4CE8-967B-CF421A6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A2C-9B28-42D3-A838-DBC55BCD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09BF-EE3B-4571-8A69-F056966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BA6-DF17-4BCA-9EA2-C4A7ADE2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070-0DBB-4490-B915-3746B36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2D9E-0286-436A-9189-B063484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B04-80D7-4882-A2DD-6A27570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504-A01D-49DA-B52C-1F9E311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54E8-E86F-409F-A605-9CE9038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F4B-CB8B-45AE-A8BA-A0BCDBB6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9C7-29AF-44DD-AFAC-C521F2D3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AFC-F208-4E41-90A8-4EEDF27D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7B7-0434-497C-8A49-2D9E18E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5A5-E4CE-47CB-AA8F-B84768E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E0D-F8BD-4FEA-8929-0804746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D61-2F6D-437B-B78C-E40B68E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DF4-2A40-4293-ACAC-63D04A3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B63-E825-451F-A779-5E5DB12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EB1-EEFD-489C-BB6D-6CEBC19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EA8-9C70-4D4C-AECF-D38A8719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B78-0695-4AC4-83F5-F8915B88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z, viens! – Level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1 – Deuxième É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nse à prend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Russie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Hawaii en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ngleterr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Polynés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gardez la destination présentée. Puis, dites à votre partenaire où vous allez aller là. Votre partenaire doit vous recommander un vêtement pour le voy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riez l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dè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1: Je vais en France pour l’été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Qu’est-ce je dois prendr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2: Il fait chau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Prends un maillot de bai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Québec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à la Martiniqu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Suiss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ustral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Finland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Bermuda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09T22:25:47Z</dcterms:modified>
  <cp:revision>77</cp:revision>
  <dc:subject/>
  <dc:title>Allez, viens! – Level 2</dc:title>
</cp:coreProperties>
</file>